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1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2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dt" idx="25"/>
          </p:nvPr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ldImg"/>
          </p:nvPr>
        </p:nvSpPr>
        <p:spPr>
          <a:xfrm>
            <a:off x="895320" y="745920"/>
            <a:ext cx="4967280" cy="3725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body"/>
          </p:nvPr>
        </p:nvSpPr>
        <p:spPr>
          <a:xfrm>
            <a:off x="676080" y="4722840"/>
            <a:ext cx="54054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9443880"/>
            <a:ext cx="2930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sldNum" idx="26"/>
          </p:nvPr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D54DD-7B4E-425B-93D7-E595C1667F7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D97E9-22FC-46EA-B07C-268BBF4D2B8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33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9047A-5021-47FE-89E5-A43B4AF3C2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1D0E0-4064-43AD-A3B8-38E344C7D32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55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CE19A-7DB5-47D8-9C8D-5D8CCCD3459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58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66FCA-28C6-48EE-ADB8-7A588B5A25A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61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19A11-1B33-44EE-89F2-557DC8B3981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64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846BE-A6A3-44E1-865D-1B83193BAAC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67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3EA01-061D-4F5A-B794-CCC98E0C341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70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105DB-D532-4BC0-894C-0A4C337187D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37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E44F7-B6DB-4E9C-BDF7-22285732008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40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6080" y="4722840"/>
            <a:ext cx="54054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Номер слайда 3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9EFC4-E606-43DB-A382-C8FD308D51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CAC29-6CF7-4177-B8F9-F52D7DC876B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46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B1734-5292-42C2-A8E7-C58097B1D59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49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02606-A377-4923-A858-4B26124F331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52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6570-FF09-4339-ACF8-E6F290B932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932E-B10A-412B-9A68-63D704E4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132DA-A880-43DC-BE2A-085DC0EE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DB92D-9EEB-4013-A75E-8EA6FD27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A6284-B166-449B-8BBF-5684D458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17B92-BC9D-4B72-838B-C8D15115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4A6F1-D63F-4C88-ABC6-4C3D9DA5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9AD73-58BF-4433-8834-93CDEE06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780D5-959D-482B-95CD-7C2BF37E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A0686-F8B3-4037-B0F8-B3DBF8BB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E4670-C81E-4093-93C6-9ED840597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4DC36-5D16-4F83-8460-B6783B5CB2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A708-72A2-4AE8-B8E4-34D9C662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E1766-7381-4866-97A6-E6C568DC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1EED7-D234-4E7D-8626-590F2352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48BAA-110E-4D06-9F9D-380B72F7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FDC17-A1E9-4860-BECB-0667ED9F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E7C8F-A367-49EB-A01E-4875646E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25CB8-3B38-46C2-8C89-1513A4E4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2EF03-D5C1-49C7-8BED-E53C65AE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B7FDED-E443-4643-9B68-F91C7FC3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C8A2D4-76CB-44DC-8405-348ECC3D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EC002-2F47-4F28-8E04-9ECC7857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BDDF-F110-43F1-9231-2BD4D4791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16331-A3C9-475E-BDF3-02ABB4B47D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E89DF6-E672-445E-A915-C87BF671F0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97B670-E18A-4E0A-B5EE-7A073FD3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536F50-3657-45BC-ADCF-FA0C0286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24659A-5F13-4949-B937-2BC99104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8E5126-2498-4483-B4FF-A5BBF479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BBBC35-567B-409A-896E-36356D68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5EE107-9CA3-46FD-A9C2-303968C3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84FBA7-8028-40B2-9815-FA7025DB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FF078B-D5FF-4FD7-A81B-8D0588A8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B3279-8EE4-4486-8294-5B82829162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38ABFC-B77A-43C4-98D2-6CA49A1D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F1EF68-195B-4CF1-8682-1CE9DEED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5D08FA-FB32-443D-A958-1BF7536B01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F95C2-9B69-4AC7-81B4-96AA0ADE9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674CE-075D-40CA-9C74-7AD9A7D6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07687-2717-427E-8B67-6C00CF25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129F3-768C-4F30-8ECD-6EBBBCD5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D50A0-36E0-4843-987D-00AF127D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331B3-51D3-437D-9211-7A5B1F82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A7D85-D245-4448-A7A7-D8C5C9CD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960FA-2379-44E5-9E6F-DC6393C9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81C8C-A056-436F-B29C-831CA259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79081-3CAA-49E9-925C-DC06DC4A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FC59C-6292-41AD-B5EF-62348346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9BBE4-D19F-441C-A369-9B8B3097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41B5F-7421-4957-A25F-45DBD1E7F6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0C4C6-1ED1-4FE8-9F61-232DDABA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B4F1F-E7DB-4C05-B24A-FBC0954F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9DFF6-62AE-4F02-B4CB-B2B1DDD1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72844-C16A-4D4B-A14C-27F7CC62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81186-ED52-41C8-896D-226F07C7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D527-9290-4D3F-A150-59745B79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7E62F-1D1B-468B-AD25-4CE3ECC9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169EA-61A8-42C7-AA1A-694EAB67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67947-4930-4445-930A-B877D77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8A088-535F-4DBB-A75F-9EC9BCC4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C8C4A-3176-43EC-8696-7C25543DC0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3C13-6808-4079-B2CC-376E394DD9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DFC5-C000-4FB6-86D3-F099EA66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784C-99DD-453C-95D0-71D31BF0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8531-E033-4C7E-84DD-2E26CA65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1B83-5991-4BE4-B5A4-B64CCCB8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FC3A-FADF-48AF-BAF0-8EEB7FA8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6649-38ED-49FC-9C6E-40D10BF5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81CA-DEAD-462D-9CB1-C78BDB6C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7D24-0197-49D0-89A8-47E24A37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4A39-CD31-41EB-81BF-793AC967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0481-47E8-404D-87E4-E551902D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C0B2-EE50-418F-BD84-CD497183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F0D-66F2-45C7-98F8-EED9880B41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1C3BD-3284-475E-A066-86AB75D15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48344-4AFC-4CAD-8CCB-5DBFA21B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4B89F-EDB0-4DE1-9028-9EB88894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2DBD4-8BE9-4B8E-89EE-1234AE81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BEDC1-DF72-449F-9FEC-C4A10B8A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24DCF-6330-40FF-9F5D-B16AC9CD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92C0F-43F1-4828-B9E1-800965FD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2B033-6190-4D19-9167-97D684F4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FCE9C-6E4B-4A7D-9AF1-95513E74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E3778-29C5-4B0F-923E-80A13F48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8AB01-C0E3-4862-8FF7-1AD2DEF0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7FFAD-F524-4188-915D-66C625F8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3D47C-EC75-44EC-9FD2-B8F53C2C74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D5616-6189-4FAA-85E4-C65AB2270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5F57-9D26-4D55-ACD2-A50D6175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F4EDEA-5F96-42D9-92C1-9D37FE21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4B91DB-F672-43F1-8784-527C0A70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80FE8-5B9D-41A6-8D69-7FA912E8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A653EC-D509-4DBE-9596-1C27DFE2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B3B008-FCC4-41FA-B8B0-53F71083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DF7CC5-9079-4CE1-A2B2-F46C7B7B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034C6-3E7E-4A50-B29F-27CAC154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F5446B-28DB-4985-B08B-BF331C5C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9A7145-572E-49C0-AC49-8E777027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7AB9E-B02B-4122-BA14-F52BC7EC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43D1-27D2-4EA1-8D17-8F6ADDBA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C6D358-908A-48B7-928F-52881E2959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875CF-8C74-4EC1-99A0-CF052107CE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F1749-B36B-495E-8B74-2BB92068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DC646-77A4-4A14-A7F8-DDA24C37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5E9AF-5EDD-4EF5-A760-299CF7C9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FA5DE-3409-4D80-B787-7C65C4E0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EB11E-C50A-4F9D-A689-0427331B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66156-942A-4246-AF2E-D21F52E4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DBB2-1906-4A0F-B7B6-9A7B2FF9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FB17-2CFE-4759-A3BA-DC8483EF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334D-6D39-48DE-99FB-0D5C3452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B8E0-A1F6-45E2-B59C-DAA35A61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8FAD1-4118-4935-A016-259E8507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70B92-17C9-4C84-91B9-CC885A948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102C2-2A22-4B51-8CC8-CE00A27783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3E424-FD0D-452A-A61F-A504EF89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E1799-08DC-45D0-BC3B-E9AC91FB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C3072-55D7-44D9-B9AE-7D6CFF5B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95E0D-B66B-4F42-B14C-9316BB24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5CB77-7F61-42B4-877C-C165D244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FF71A-5700-48A4-9CEB-65C5385D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980E-FC09-4506-968A-AB6F0A52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5089B-981D-4CEB-8256-80536C81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3D39A-08B4-4FD7-8CE2-63DD3991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1F84A-01BA-4518-AA7E-07990E6C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AD806-525D-48E3-97FB-A3A7149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F213E-0AC7-4C28-B6EB-B6230F1331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172FB-99E5-40FF-8D72-EA5A055A3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5B7C34-A817-4D61-AAA6-AF0D4B9E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C7BE04-FC67-49EB-9820-B8B1F2BE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568CE4-284A-441B-9E0D-93F59DF1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438959-5BC3-4D40-85FE-766EEE46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6D78-BEA9-4AFF-A1B8-4E5A47ED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BE54A8-3F13-4845-93A2-C81F570A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F48D09-D2C5-4D50-818C-B899E65C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5E2612-C5C4-4B83-B0A5-E93715B9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DA399E-5F4B-4FC8-825A-A9D0E2A5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FBFD89-890E-4909-A24A-DDA6ECA1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59D806-A766-4254-9C6C-2943E938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4C2B30-EF44-4320-AC18-5CAEF3C52D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DAE8-A2AA-4E09-90DA-550F53D56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CF95C-688E-479A-B227-3725B87C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7C944-708B-4BAD-9787-2106F34A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6.0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91A46-4805-4BC5-85ED-9F1A2C8CDF9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0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8F79A-14BE-4021-9F50-DF9086A2EBE9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459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Group 4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462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7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465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1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2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9407A-8BB9-4A26-BA44-CFDA5934BFF4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3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4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F3CC0-CFBE-46F0-B6AE-2C3864C631BE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12640" y="4029120"/>
            <a:ext cx="8628120" cy="9360"/>
            <a:chOff x="512640" y="4029120"/>
            <a:chExt cx="8628120" cy="936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4029120"/>
              <a:ext cx="86281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4035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5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DF6292D-11E8-4819-8D68-5114B636DA63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BD6D9-54DC-42C6-8AAE-F5442213A487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12640" y="3438360"/>
            <a:ext cx="8628120" cy="8280"/>
            <a:chOff x="512640" y="3438360"/>
            <a:chExt cx="8628120" cy="828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28120" cy="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02CBB-D1CF-4A2C-87A6-F3FBCDB1C4A8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4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92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7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195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9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0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328A7-64DD-4A5B-8121-CA4249E02BA9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"/>
          <p:cNvGrpSpPr/>
          <p:nvPr/>
        </p:nvGrpSpPr>
        <p:grpSpPr>
          <a:xfrm>
            <a:off x="512640" y="6016680"/>
            <a:ext cx="8628120" cy="9360"/>
            <a:chOff x="512640" y="6016680"/>
            <a:chExt cx="8628120" cy="9360"/>
          </a:xfrm>
        </p:grpSpPr>
        <p:pic>
          <p:nvPicPr>
            <p:cNvPr id="239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281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1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58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0A1EC0F-2CE3-45FE-924B-B22D67FFDF1A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283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Group 4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286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Group 7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289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4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Эффективное управление временем и ресурсами.                                                                                            </a:t>
            </a:r>
            <a:fld id="{E45AA567-B942-4633-BDEB-DEC405BE3810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5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29474-60E2-4584-B1AD-B5D559C80BFF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1"/>
          <p:cNvGrpSpPr/>
          <p:nvPr/>
        </p:nvGrpSpPr>
        <p:grpSpPr>
          <a:xfrm>
            <a:off x="512640" y="5846760"/>
            <a:ext cx="8628120" cy="7920"/>
            <a:chOff x="512640" y="5846760"/>
            <a:chExt cx="8628120" cy="7920"/>
          </a:xfrm>
        </p:grpSpPr>
        <p:pic>
          <p:nvPicPr>
            <p:cNvPr id="374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28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7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8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C764B-D89E-450A-8AB1-8D39805D1339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361800" y="3500280"/>
            <a:ext cx="84582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Franklin Gothic Medium"/>
              </a:rPr>
              <a:t>ПРЕЗЕНТАЦИЯ ПРОЕКТА</a:t>
            </a:r>
            <a:br>
              <a:rPr sz="2600"/>
            </a:br>
            <a:r>
              <a:rPr b="0" lang="ru-RU" sz="2600" spc="-1" strike="noStrike">
                <a:solidFill>
                  <a:srgbClr val="464646"/>
                </a:solidFill>
                <a:latin typeface="Franklin Gothic Medium"/>
              </a:rPr>
              <a:t>«ВНЕДРЕНИЕ МЕХАНИЗМА ОТБОРА, ПОДГОТОВКИ И СОПРОВОЖДЕНИЯ СОЦИАЛЬНО-АКТИВНОЙ МОЛОДЕЖИ БЕЛГОРОДСКОЙ ОБЛАСТИ </a:t>
            </a:r>
            <a:br>
              <a:rPr sz="2600"/>
            </a:br>
            <a:r>
              <a:rPr b="0" lang="ru-RU" sz="2600" spc="-1" strike="noStrike">
                <a:solidFill>
                  <a:srgbClr val="464646"/>
                </a:solidFill>
                <a:latin typeface="Franklin Gothic Medium"/>
              </a:rPr>
              <a:t>(МОЛОДЕЖНОЕ ПРАВИТЕЛЬСТВО) 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98520" y="1484280"/>
            <a:ext cx="84582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d3d3d"/>
                </a:solidFill>
                <a:latin typeface="Franklin Gothic Book"/>
              </a:rPr>
              <a:t>Департамент внутренней и кадровой политики Белгород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d3d3d"/>
                </a:solidFill>
                <a:latin typeface="Franklin Gothic Book"/>
              </a:rPr>
              <a:t>Управление молодежной политики Белгород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468360" y="216000"/>
            <a:ext cx="1143000" cy="136044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347760" y="6357960"/>
            <a:ext cx="67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Franklin Gothic Book"/>
              </a:rPr>
              <a:t>г. Белгород, 2017 г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1"/>
          <p:cNvSpPr/>
          <p:nvPr/>
        </p:nvSpPr>
        <p:spPr>
          <a:xfrm>
            <a:off x="304920" y="189000"/>
            <a:ext cx="868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79280" y="1052640"/>
          <a:ext cx="8732880" cy="4924440"/>
        </p:xfrm>
        <a:graphic>
          <a:graphicData uri="http://schemas.openxmlformats.org/drawingml/2006/table">
            <a:tbl>
              <a:tblPr/>
              <a:tblGrid>
                <a:gridCol w="374760"/>
                <a:gridCol w="1640880"/>
                <a:gridCol w="1296360"/>
                <a:gridCol w="934920"/>
                <a:gridCol w="926640"/>
                <a:gridCol w="222120"/>
                <a:gridCol w="222480"/>
                <a:gridCol w="222120"/>
                <a:gridCol w="222120"/>
                <a:gridCol w="222480"/>
                <a:gridCol w="222120"/>
                <a:gridCol w="222480"/>
                <a:gridCol w="222120"/>
                <a:gridCol w="222120"/>
                <a:gridCol w="222480"/>
                <a:gridCol w="234720"/>
                <a:gridCol w="216000"/>
                <a:gridCol w="222120"/>
                <a:gridCol w="222120"/>
                <a:gridCol w="222480"/>
                <a:gridCol w="219240"/>
              </a:tblGrid>
              <a:tr h="270720"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Длительность,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онча-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первой волны обучения для членом молодежного правительств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89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9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.01.20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6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здание проектов молодежного правительств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74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6.01.20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.01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7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азания содействия в трудоустройстве для членом молодёжного правительств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7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.01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.03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 grid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40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8.12.20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.03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1"/>
          <p:cNvSpPr/>
          <p:nvPr/>
        </p:nvSpPr>
        <p:spPr>
          <a:xfrm>
            <a:off x="457200" y="42876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79280" y="1052640"/>
          <a:ext cx="8856720" cy="2987640"/>
        </p:xfrm>
        <a:graphic>
          <a:graphicData uri="http://schemas.openxmlformats.org/drawingml/2006/table">
            <a:tbl>
              <a:tblPr/>
              <a:tblGrid>
                <a:gridCol w="322200"/>
                <a:gridCol w="3071880"/>
                <a:gridCol w="897120"/>
                <a:gridCol w="677880"/>
                <a:gridCol w="949320"/>
                <a:gridCol w="633240"/>
                <a:gridCol w="833400"/>
                <a:gridCol w="754200"/>
                <a:gridCol w="717480"/>
              </a:tblGrid>
              <a:tr h="289440">
                <a:tc rowSpan="2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ные источ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небюджетные источ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Феде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ль-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бласт- н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ест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хоз. субъ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ем- ные сред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Franklin Gothic 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обучения членов молодежного правительства Белгородской област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9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9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Franklin Gothic 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текущей деятельности молодежного правительства Белгородской област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Segoe UI"/>
                        </a:rPr>
                        <a:t>14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 gridSpan="2">
                  <a:txBody>
                    <a:bodyPr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Segoe UI"/>
                        </a:rPr>
                        <a:t>11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1"/>
          <p:cNvSpPr/>
          <p:nvPr/>
        </p:nvSpPr>
        <p:spPr>
          <a:xfrm>
            <a:off x="304920" y="3175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ФОРМЫ УЧАСТИЯ ОБЛАСТИ</a:t>
            </a:r>
            <a:br>
              <a:rPr sz="2200"/>
            </a:b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В РЕАЛИЗАЦИИ ПРОЕК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"/>
          <p:cNvSpPr/>
          <p:nvPr/>
        </p:nvSpPr>
        <p:spPr>
          <a:xfrm>
            <a:off x="4861080" y="1522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-167400" y="6402240"/>
            <a:ext cx="58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13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необходимо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казать основание выделения денежных средст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79280" y="1112760"/>
          <a:ext cx="8815320" cy="5553000"/>
        </p:xfrm>
        <a:graphic>
          <a:graphicData uri="http://schemas.openxmlformats.org/drawingml/2006/table">
            <a:tbl>
              <a:tblPr/>
              <a:tblGrid>
                <a:gridCol w="1871640"/>
                <a:gridCol w="2233800"/>
                <a:gridCol w="142920"/>
                <a:gridCol w="1469880"/>
                <a:gridCol w="1549440"/>
                <a:gridCol w="1547640"/>
              </a:tblGrid>
              <a:tr h="277920">
                <a:tc gridSpan="6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Бюджетное финанс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0">
                <a:tc gridSpan="2" row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Форма участ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33840" bIns="0" anchor="ctr">
                      <a:noAutofit/>
                    </a:bodyPr>
                    <a:p>
                      <a:pPr marL="457200"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азмер участия бюджета, тыс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marL="228600">
                        <a:lnSpc>
                          <a:spcPct val="110000"/>
                        </a:lnSpc>
                        <a:tabLst>
                          <a:tab algn="l" pos="0"/>
                          <a:tab algn="l" pos="228600"/>
                          <a:tab algn="l" pos="676440"/>
                          <a:tab algn="l" pos="1125360"/>
                          <a:tab algn="l" pos="1574640"/>
                          <a:tab algn="l" pos="2023920"/>
                          <a:tab algn="l" pos="2473200"/>
                          <a:tab algn="l" pos="2922480"/>
                          <a:tab algn="l" pos="3371760"/>
                          <a:tab algn="l" pos="3821040"/>
                          <a:tab algn="l" pos="4270320"/>
                          <a:tab algn="l" pos="4719600"/>
                          <a:tab algn="l" pos="5168880"/>
                          <a:tab algn="l" pos="5618160"/>
                          <a:tab algn="l" pos="6067440"/>
                          <a:tab algn="l" pos="6516720"/>
                          <a:tab algn="l" pos="6966000"/>
                          <a:tab algn="l" pos="7415280"/>
                          <a:tab algn="l" pos="7864560"/>
                          <a:tab algn="l" pos="8313840"/>
                          <a:tab algn="l" pos="8763120"/>
                          <a:tab algn="l" pos="9212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Федера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бластно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Мест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ямое бюджетное финансирова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соответствующую программ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Дороги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плановую протяжен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убсидии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соответствующую программ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 gridSpan="6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граммы государственной поддерж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0"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отреб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 marL="457200"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Финансовые вложения, тыс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24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Электроэнергия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требуемую мощ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92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Газоснабжение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требуемый объ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12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Водоснабжение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требуемый объ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560"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Гарантии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560"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логи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920"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чие формы участия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280">
                <a:tc gridSpan="6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емельный участок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казать адрес расположения земельного участка, указать площадь земельного участка, указать расчетную стоимость (аренды) участ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1"/>
          <p:cNvSpPr/>
          <p:nvPr/>
        </p:nvSpPr>
        <p:spPr>
          <a:xfrm>
            <a:off x="304920" y="1522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ПОКАЗАТЕЛИ СОЦИАЛЬНОЙ, БЮДЖЕТНОЙ И ЭКОНОМИЧЕСКОЙ ЭФФЕКТИВНОСТИ ПРОЕКТА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04840" y="836640"/>
          <a:ext cx="8885160" cy="5854680"/>
        </p:xfrm>
        <a:graphic>
          <a:graphicData uri="http://schemas.openxmlformats.org/drawingml/2006/table">
            <a:tbl>
              <a:tblPr/>
              <a:tblGrid>
                <a:gridCol w="466560"/>
                <a:gridCol w="6377040"/>
                <a:gridCol w="1177920"/>
                <a:gridCol w="863640"/>
              </a:tblGrid>
              <a:tr h="263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циальная эффектив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хват населения социальными благами за период реализации проек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ыс. чел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овые рабочие мес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Ед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редняя з/п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ыс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есячный ФО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овой ФО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Иные показател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ная эффектив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Участие бюджетных источников в проект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логи в консолидированный бюджет области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лог с 1 работника в консолидированный бюджет области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Целевая выработка на одного работни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рок окупаемости бюджетных инвестици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Снижение возможного ущерб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Экономия бюджетных сред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Экономическая эффектив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овой объем выручки 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овой объем прибыли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ентабельность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рок окупаемости проек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бъем инвестиций в основной капитал в рамках проек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бъем инвестиций, осваиваемых на территории обла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ные показател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Text Box 293"/>
          <p:cNvSpPr/>
          <p:nvPr/>
        </p:nvSpPr>
        <p:spPr>
          <a:xfrm>
            <a:off x="4863960" y="152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1"/>
          <p:cNvSpPr/>
          <p:nvPr/>
        </p:nvSpPr>
        <p:spPr>
          <a:xfrm>
            <a:off x="301680" y="426960"/>
            <a:ext cx="8686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КОМАНДА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250920" y="1197000"/>
          <a:ext cx="8715240" cy="5157720"/>
        </p:xfrm>
        <a:graphic>
          <a:graphicData uri="http://schemas.openxmlformats.org/drawingml/2006/table">
            <a:tbl>
              <a:tblPr/>
              <a:tblGrid>
                <a:gridCol w="428400"/>
                <a:gridCol w="1876680"/>
                <a:gridCol w="3554280"/>
                <a:gridCol w="2855880"/>
              </a:tblGrid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Должность и основное место 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Выполняемые в проекте 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Чесноков Андрей Валериеви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Заместитель начальника департамента внутренней и кадровой политики области – начальник управления молодежной политики обла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Куратор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Шуваева Светлана Михайло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ьник отдела организационно-массовой работы управления молодежной политики обла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уководитель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ловенко Екатерина Сергее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пециалист по работе с молодежью ОГБУ «Центр молодежных инициатив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Администратор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ператор мониторинга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 Box 111"/>
          <p:cNvSpPr/>
          <p:nvPr/>
        </p:nvSpPr>
        <p:spPr>
          <a:xfrm>
            <a:off x="4863960" y="152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1"/>
          <p:cNvSpPr/>
          <p:nvPr/>
        </p:nvSpPr>
        <p:spPr>
          <a:xfrm>
            <a:off x="3348000" y="3500280"/>
            <a:ext cx="547200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Руководитель проекта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тел.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d3d3d"/>
                </a:solidFill>
                <a:latin typeface="Franklin Gothic Book"/>
              </a:rPr>
              <a:t>e-mail</a:t>
            </a: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Администратор проекта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3d3d3d"/>
                </a:solidFill>
                <a:latin typeface="Franklin Gothic Book"/>
              </a:rPr>
              <a:t>ФИО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тел.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d3d3d"/>
                </a:solidFill>
                <a:latin typeface="Franklin Gothic Book"/>
              </a:rPr>
              <a:t>e-mail</a:t>
            </a: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2"/>
          <p:cNvSpPr/>
          <p:nvPr/>
        </p:nvSpPr>
        <p:spPr>
          <a:xfrm>
            <a:off x="181080" y="2205000"/>
            <a:ext cx="8686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Medium"/>
              </a:rPr>
              <a:t>КОНТАКТНЫЕ ДАННЫЕ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1508040" y="339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826920" y="5538960"/>
            <a:ext cx="331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меститель начальника департамента внутренней и кадровой политики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6732720" y="599292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Мись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4863960" y="152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4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304920" y="439560"/>
            <a:ext cx="916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2200"/>
            </a:b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ЕСТЬ»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468360" y="1125360"/>
            <a:ext cx="84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9"/>
          <p:cNvSpPr/>
          <p:nvPr/>
        </p:nvSpPr>
        <p:spPr>
          <a:xfrm>
            <a:off x="561960" y="3424320"/>
            <a:ext cx="2281320" cy="240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ОТСУТСТВИЕ УТВЕРЖДЕННОЙ ОРГАНИЗАЦИОННОЙ СТРУКТУРЫ МОЛОДЕЖНОГО ПРАВИТЕЛЬСТВА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Прямоугольник 16"/>
          <p:cNvSpPr/>
          <p:nvPr/>
        </p:nvSpPr>
        <p:spPr>
          <a:xfrm>
            <a:off x="3492360" y="3451320"/>
            <a:ext cx="2266920" cy="24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ОТСУТСТВИЕ СИСТЕМАТИЗИРОВАННОЙ ОБРАЗОВАТЕЛЬНОЙ ПРОГРАММЫ                      С ПОСЛЕДУЮЩЕЙ ОЦЕНКОЙ УРОВНЯ ЗНАНИЙ, ПОЛУЧЕННОГО ЧЛЕНАМИ МОЛОДЕЖНОГО ПРАВИТЕЛЬСТВА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Прямоугольник 17"/>
          <p:cNvSpPr/>
          <p:nvPr/>
        </p:nvSpPr>
        <p:spPr>
          <a:xfrm>
            <a:off x="6475320" y="3446640"/>
            <a:ext cx="2232000" cy="240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ОТСУТСТВИЕ КРИТЕРИЕВ ЭФФЕКТИВНОСТИ ПРОХОЖДЕНИЯ СТАЖИРОВОК ЧЛЕНАМИ МОЛОДЕЖНОГО ПРАВИТЕЛЬСТВА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кругленный прямоугольник 10"/>
          <p:cNvSpPr/>
          <p:nvPr/>
        </p:nvSpPr>
        <p:spPr>
          <a:xfrm>
            <a:off x="492120" y="2560680"/>
            <a:ext cx="82090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ПО ИТОГАМ ДЕЯТЕЛЬНОСТИ </a:t>
            </a: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VII </a:t>
            </a: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СОЗЫВА МОЛОДЕЖНОГО ПРАВИТЕЛЬСТВА БЕЛГОРОДСКОЙ ОБЛАСТИ МОЖНО ВЫДЕЛИТЬ СЛЕДУЮЩИЕ ПРОБЛЕМНЫЕ МОМЕНТ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13"/>
          <p:cNvSpPr/>
          <p:nvPr/>
        </p:nvSpPr>
        <p:spPr>
          <a:xfrm>
            <a:off x="492120" y="1052640"/>
            <a:ext cx="820908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В НАСТОЯЩИЙ МОМЕНТ ИСТЕК СРОК ПОЛНОМОЧИЙ </a:t>
            </a: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VII </a:t>
            </a: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СОЗЫВА МОЛОДЕЖНОГО ПРАВИТЕЛЬСТВА БЕЛГОРОДСКОЙ ОБЛАСТИ, ОБЩАЯ ЧИСЛЕННОСТЬ КОТОРОГО СОСТАВЛЯЛА 16 ЧЕЛОВЕК, ВЫБРАННЫХ ПУТЁМ КОНКУРСНОГО ОТБОРА ИЗ ЧИСЛА ГРАЖДАН РОССИЙСКОЙ ФЕДЕРАЦИИ В ВОЗРАСТЕ ОТ 18 ДО 30 ЛЕТ, ПРОЖИВАЮЩИХ НА ТЕРРИТОРИИ БЕЛГОРОДСКОЙ 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Овал 18"/>
          <p:cNvSpPr/>
          <p:nvPr/>
        </p:nvSpPr>
        <p:spPr>
          <a:xfrm>
            <a:off x="1258920" y="5832360"/>
            <a:ext cx="792000" cy="649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Овал 23"/>
          <p:cNvSpPr/>
          <p:nvPr/>
        </p:nvSpPr>
        <p:spPr>
          <a:xfrm>
            <a:off x="4229280" y="5864400"/>
            <a:ext cx="792000" cy="64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Овал 24"/>
          <p:cNvSpPr/>
          <p:nvPr/>
        </p:nvSpPr>
        <p:spPr>
          <a:xfrm>
            <a:off x="7308720" y="5864400"/>
            <a:ext cx="792360" cy="64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2" name="Прямая со стрелкой 20"/>
          <p:cNvCxnSpPr>
            <a:endCxn id="564" idx="0"/>
          </p:cNvCxnSpPr>
          <p:nvPr/>
        </p:nvCxnSpPr>
        <p:spPr>
          <a:xfrm>
            <a:off x="1703160" y="320832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3" name="Прямая со стрелкой 37"/>
          <p:cNvCxnSpPr/>
          <p:nvPr/>
        </p:nvCxnSpPr>
        <p:spPr>
          <a:xfrm>
            <a:off x="4597200" y="3233880"/>
            <a:ext cx="1080" cy="218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4" name="Прямая со стрелкой 38"/>
          <p:cNvCxnSpPr>
            <a:endCxn id="566" idx="0"/>
          </p:cNvCxnSpPr>
          <p:nvPr/>
        </p:nvCxnSpPr>
        <p:spPr>
          <a:xfrm>
            <a:off x="7590960" y="3233520"/>
            <a:ext cx="1080" cy="213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1"/>
          <p:cNvSpPr/>
          <p:nvPr/>
        </p:nvSpPr>
        <p:spPr>
          <a:xfrm>
            <a:off x="301680" y="18900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ЦЕЛЬ И РЕЗУЛЬТА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42920" y="765000"/>
          <a:ext cx="8880480" cy="5931000"/>
        </p:xfrm>
        <a:graphic>
          <a:graphicData uri="http://schemas.openxmlformats.org/drawingml/2006/table">
            <a:tbl>
              <a:tblPr/>
              <a:tblGrid>
                <a:gridCol w="1797120"/>
                <a:gridCol w="7083360"/>
              </a:tblGrid>
              <a:tr h="63972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Цель проекта: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 Unicode MS"/>
                        </a:rPr>
                        <a:t>К марту 2019 года обеспечить подготовку не менее 25 человек, обладающих компетенциями и навыками в области проектного управления для включения в кадровой резерв регио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пособ достижения цели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9960" bIns="39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 Unicode MS"/>
                        </a:rPr>
                        <a:t>Посредством организации деятельности молодежного правительства Белгородской области к марту 2019 года апробировать механизм отбора,                  практико-ориентированной подготовки и сопровождения социально-активной молодежи Белгородской облас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езультат проекта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9960" bIns="39960"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ан и апробирован механизм отбора, подготовки и сопровождения социально-активной молодежи Белгородской области, обеспечивающий включение не менее 25 молодых людей в кадровый резерв регио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708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ребования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к результату: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9960" bIns="39960" anchor="ctr">
                      <a:noAutofit/>
                    </a:bodyPr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аны и утверждены НПА, регламентирующие создание и функционирование молодежного правительств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 конкурсный отбор по формированию молодежного правительства  (не менее 100 заявок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ставлены карты компетенций для каждого члена молодежного правительств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ставлены и утверждены графики прохождения стажировок для каждого члена молодежного правительств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аны критерии эффективности прохождения стажировк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ана и реализована образовательная программа (не менее 16 часов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а оценка полученных знаний членами молодежного правительств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членами молодежного правительства реализованы проекты (не менее 3-х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ользователи результата проекта: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9960" bIns="39960"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раждане Российской Федерации в возрасте от 21 до 30 лет, проживающие              на территории Белгородской област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Прямоугольник 2"/>
          <p:cNvSpPr/>
          <p:nvPr/>
        </p:nvSpPr>
        <p:spPr>
          <a:xfrm>
            <a:off x="687240" y="18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ВЕДЕНИЕ В ПРЕДМЕТНУЮ ОБЛАСТЬ</a:t>
            </a:r>
            <a:br>
              <a:rPr sz="1800"/>
            </a:b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(ОПИСАНИЕ СИТУАЦИИ «КАК БУДЕТ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Рисунок 3" descr=""/>
          <p:cNvPicPr/>
          <p:nvPr/>
        </p:nvPicPr>
        <p:blipFill>
          <a:blip r:embed="rId1"/>
          <a:stretch/>
        </p:blipFill>
        <p:spPr>
          <a:xfrm>
            <a:off x="189000" y="2135160"/>
            <a:ext cx="1557360" cy="150012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5" descr=""/>
          <p:cNvPicPr/>
          <p:nvPr/>
        </p:nvPicPr>
        <p:blipFill>
          <a:blip r:embed="rId2"/>
          <a:stretch/>
        </p:blipFill>
        <p:spPr>
          <a:xfrm>
            <a:off x="6473880" y="2135160"/>
            <a:ext cx="1212840" cy="1500120"/>
          </a:xfrm>
          <a:prstGeom prst="rect">
            <a:avLst/>
          </a:prstGeom>
          <a:ln w="0">
            <a:noFill/>
          </a:ln>
        </p:spPr>
      </p:pic>
      <p:pic>
        <p:nvPicPr>
          <p:cNvPr id="580" name="Рисунок 6" descr=""/>
          <p:cNvPicPr/>
          <p:nvPr/>
        </p:nvPicPr>
        <p:blipFill>
          <a:blip r:embed="rId3"/>
          <a:stretch/>
        </p:blipFill>
        <p:spPr>
          <a:xfrm>
            <a:off x="2973240" y="2214720"/>
            <a:ext cx="1683000" cy="1420560"/>
          </a:xfrm>
          <a:prstGeom prst="rect">
            <a:avLst/>
          </a:prstGeom>
          <a:ln w="0">
            <a:noFill/>
          </a:ln>
        </p:spPr>
      </p:pic>
      <p:pic>
        <p:nvPicPr>
          <p:cNvPr id="581" name="Рисунок 7" descr=""/>
          <p:cNvPicPr/>
          <p:nvPr/>
        </p:nvPicPr>
        <p:blipFill>
          <a:blip r:embed="rId4"/>
          <a:stretch/>
        </p:blipFill>
        <p:spPr>
          <a:xfrm>
            <a:off x="4224240" y="4765680"/>
            <a:ext cx="1441440" cy="139068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8" descr=""/>
          <p:cNvPicPr/>
          <p:nvPr/>
        </p:nvPicPr>
        <p:blipFill>
          <a:blip r:embed="rId5"/>
          <a:stretch/>
        </p:blipFill>
        <p:spPr>
          <a:xfrm>
            <a:off x="3240" y="4624560"/>
            <a:ext cx="2098440" cy="15048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9"/>
          <p:cNvSpPr/>
          <p:nvPr/>
        </p:nvSpPr>
        <p:spPr>
          <a:xfrm>
            <a:off x="104760" y="1484280"/>
            <a:ext cx="18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Franklin Gothic Medium"/>
              </a:rPr>
              <a:t>Не менее 100 заяв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10"/>
          <p:cNvSpPr/>
          <p:nvPr/>
        </p:nvSpPr>
        <p:spPr>
          <a:xfrm>
            <a:off x="1857240" y="354816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2 меся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1714680" y="2465280"/>
            <a:ext cx="1473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ведение конкурса по формированию  молодежного правительства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3068640" y="15922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Franklin Gothic Book"/>
              </a:rPr>
              <a:t>30 </a:t>
            </a:r>
            <a:r>
              <a:rPr b="0" lang="ru-RU" sz="1400" spc="-1" strike="noStrike">
                <a:solidFill>
                  <a:srgbClr val="ff0000"/>
                </a:solidFill>
                <a:latin typeface="Franklin Gothic Book"/>
              </a:rPr>
              <a:t>челове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Box 17"/>
          <p:cNvSpPr/>
          <p:nvPr/>
        </p:nvSpPr>
        <p:spPr>
          <a:xfrm>
            <a:off x="4740120" y="2211480"/>
            <a:ext cx="201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составление карт компетенц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ведение командообраз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выбор наставник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утверждение пл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и регламента работ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19"/>
          <p:cNvSpPr/>
          <p:nvPr/>
        </p:nvSpPr>
        <p:spPr>
          <a:xfrm>
            <a:off x="5070600" y="3649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4 меся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21"/>
          <p:cNvSpPr/>
          <p:nvPr/>
        </p:nvSpPr>
        <p:spPr>
          <a:xfrm rot="20903400">
            <a:off x="4913280" y="42544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4 меся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20"/>
          <p:cNvSpPr/>
          <p:nvPr/>
        </p:nvSpPr>
        <p:spPr>
          <a:xfrm>
            <a:off x="7667640" y="2187720"/>
            <a:ext cx="1882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хождение стажировок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ведение образовательной программ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вклю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в состав команды проек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1979640" y="4775040"/>
            <a:ext cx="22446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разработка и реализация проектов молодежного правительст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ведение образовательной програм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Box 28"/>
          <p:cNvSpPr/>
          <p:nvPr/>
        </p:nvSpPr>
        <p:spPr>
          <a:xfrm>
            <a:off x="2506680" y="6129360"/>
            <a:ext cx="114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12 месяце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3" name="Прямая со стрелкой 29"/>
          <p:cNvCxnSpPr/>
          <p:nvPr/>
        </p:nvCxnSpPr>
        <p:spPr>
          <a:xfrm>
            <a:off x="4861080" y="3634920"/>
            <a:ext cx="149904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94" name="Прямая со стрелкой 31"/>
          <p:cNvCxnSpPr/>
          <p:nvPr/>
        </p:nvCxnSpPr>
        <p:spPr>
          <a:xfrm>
            <a:off x="1847520" y="3481200"/>
            <a:ext cx="103716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95" name="Прямая со стрелкой 34"/>
          <p:cNvCxnSpPr/>
          <p:nvPr/>
        </p:nvCxnSpPr>
        <p:spPr>
          <a:xfrm flipH="1">
            <a:off x="2101320" y="3701520"/>
            <a:ext cx="5834880" cy="92340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596" name="Рисунок 50" descr=""/>
          <p:cNvPicPr/>
          <p:nvPr/>
        </p:nvPicPr>
        <p:blipFill>
          <a:blip r:embed="rId6"/>
          <a:stretch/>
        </p:blipFill>
        <p:spPr>
          <a:xfrm>
            <a:off x="7245360" y="4842000"/>
            <a:ext cx="1649520" cy="1454040"/>
          </a:xfrm>
          <a:prstGeom prst="rect">
            <a:avLst/>
          </a:prstGeom>
          <a:ln w="0">
            <a:noFill/>
          </a:ln>
        </p:spPr>
      </p:pic>
      <p:sp>
        <p:nvSpPr>
          <p:cNvPr id="597" name="TextBox 54"/>
          <p:cNvSpPr/>
          <p:nvPr/>
        </p:nvSpPr>
        <p:spPr>
          <a:xfrm>
            <a:off x="5830920" y="612936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2 меся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53"/>
          <p:cNvSpPr/>
          <p:nvPr/>
        </p:nvSpPr>
        <p:spPr>
          <a:xfrm>
            <a:off x="5681520" y="5010120"/>
            <a:ext cx="15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оказания содействия в трудоустройст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9" name="Прямая со стрелкой 29"/>
          <p:cNvCxnSpPr/>
          <p:nvPr/>
        </p:nvCxnSpPr>
        <p:spPr>
          <a:xfrm>
            <a:off x="2013120" y="6021000"/>
            <a:ext cx="21787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00" name="Прямая со стрелкой 32"/>
          <p:cNvCxnSpPr/>
          <p:nvPr/>
        </p:nvCxnSpPr>
        <p:spPr>
          <a:xfrm>
            <a:off x="5748120" y="6021000"/>
            <a:ext cx="141516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1960" y="404640"/>
            <a:ext cx="7627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1800"/>
            </a:br>
            <a:endParaRPr b="0" lang="en-US" sz="18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02" name="Скругленный прямоугольник 9"/>
          <p:cNvSpPr/>
          <p:nvPr/>
        </p:nvSpPr>
        <p:spPr>
          <a:xfrm>
            <a:off x="2031840" y="1052640"/>
            <a:ext cx="69040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МОЛОДЕЖЬ БЕЛГОРОДСКОЙ ОБЛАСТИ В ВОЗРАСТЕ ОТ 21 ДО 30 ЛЕТ, ПРОЖИВАЮЩАЯ НА ТЕРРИТОРИИ  БЕЛГОРОД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Блок-схема: объединение 10"/>
          <p:cNvSpPr/>
          <p:nvPr/>
        </p:nvSpPr>
        <p:spPr>
          <a:xfrm>
            <a:off x="2185920" y="1623960"/>
            <a:ext cx="6715080" cy="378000"/>
          </a:xfrm>
          <a:prstGeom prst="flowChartMerg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КОНКУРСНЫЙ ОТБ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Скругленный прямоугольник 21"/>
          <p:cNvSpPr/>
          <p:nvPr/>
        </p:nvSpPr>
        <p:spPr>
          <a:xfrm>
            <a:off x="2298600" y="2216160"/>
            <a:ext cx="2089080" cy="105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представители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 муниципальных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бразовани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Скругленный прямоугольник 24"/>
          <p:cNvSpPr/>
          <p:nvPr/>
        </p:nvSpPr>
        <p:spPr>
          <a:xfrm>
            <a:off x="4524480" y="2241720"/>
            <a:ext cx="2038320" cy="106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представители общественных организаци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Скругленный прямоугольник 25"/>
          <p:cNvSpPr/>
          <p:nvPr/>
        </p:nvSpPr>
        <p:spPr>
          <a:xfrm>
            <a:off x="6732720" y="2251080"/>
            <a:ext cx="1942920" cy="105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иные представители молодежи области, прошедшие конкурсный отбо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7" name="Прямая со стрелкой 27"/>
          <p:cNvCxnSpPr/>
          <p:nvPr/>
        </p:nvCxnSpPr>
        <p:spPr>
          <a:xfrm flipH="1">
            <a:off x="3563280" y="1807920"/>
            <a:ext cx="292680" cy="38628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08" name="Прямая со стрелкой 30"/>
          <p:cNvCxnSpPr>
            <a:stCxn id="603" idx="2"/>
          </p:cNvCxnSpPr>
          <p:nvPr/>
        </p:nvCxnSpPr>
        <p:spPr>
          <a:xfrm flipH="1">
            <a:off x="5542920" y="2001600"/>
            <a:ext cx="1080" cy="2149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09" name="Прямая со стрелкой 32"/>
          <p:cNvCxnSpPr/>
          <p:nvPr/>
        </p:nvCxnSpPr>
        <p:spPr>
          <a:xfrm>
            <a:off x="7222680" y="1808280"/>
            <a:ext cx="374040" cy="43416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610" name="Правая фигурная скобка 38"/>
          <p:cNvSpPr/>
          <p:nvPr/>
        </p:nvSpPr>
        <p:spPr>
          <a:xfrm rot="5400000">
            <a:off x="5279040" y="340200"/>
            <a:ext cx="409320" cy="6265800"/>
          </a:xfrm>
          <a:custGeom>
            <a:avLst/>
            <a:gdLst>
              <a:gd name="textAreaLeft" fmla="*/ 0 w 409320"/>
              <a:gd name="textAreaRight" fmla="*/ 147600 w 409320"/>
              <a:gd name="textAreaTop" fmla="*/ 10440 h 6265800"/>
              <a:gd name="textAreaBottom" fmla="*/ 6255360 h 626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"/>
                  <a:pt x="10800" y="118"/>
                </a:cubicBezTo>
                <a:lnTo>
                  <a:pt x="10800" y="10682"/>
                </a:lnTo>
                <a:cubicBezTo>
                  <a:pt x="10800" y="10741"/>
                  <a:pt x="16200" y="10800"/>
                  <a:pt x="21600" y="10800"/>
                </a:cubicBezTo>
                <a:cubicBezTo>
                  <a:pt x="16200" y="10800"/>
                  <a:pt x="10800" y="10859"/>
                  <a:pt x="10800" y="10918"/>
                </a:cubicBezTo>
                <a:lnTo>
                  <a:pt x="10800" y="21482"/>
                </a:lnTo>
                <a:cubicBezTo>
                  <a:pt x="10800" y="2154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Овал 39"/>
          <p:cNvSpPr/>
          <p:nvPr/>
        </p:nvSpPr>
        <p:spPr>
          <a:xfrm>
            <a:off x="4356000" y="4133880"/>
            <a:ext cx="2376720" cy="121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МОЛОДЕЖНОЕ ПРАВИТЕЛЬСТВО БЕЛГОРОДСКОЙ ОБЛАСТИ </a:t>
            </a:r>
            <a:br>
              <a:rPr sz="1400"/>
            </a:br>
            <a:r>
              <a:rPr b="0" lang="en-US" sz="1400" spc="-1" strike="noStrike">
                <a:solidFill>
                  <a:srgbClr val="0d0d0d"/>
                </a:solidFill>
                <a:latin typeface="Franklin Gothic Medium"/>
              </a:rPr>
              <a:t>VIII </a:t>
            </a: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СОЗЫ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Левая фигурная скобка 77"/>
          <p:cNvSpPr/>
          <p:nvPr/>
        </p:nvSpPr>
        <p:spPr>
          <a:xfrm>
            <a:off x="1630440" y="1123920"/>
            <a:ext cx="216000" cy="232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322720"/>
              <a:gd name="textAreaBottom" fmla="*/ 2317320 h 232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7"/>
                </a:cubicBezTo>
                <a:lnTo>
                  <a:pt x="10800" y="10633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7"/>
                </a:cubicBezTo>
                <a:lnTo>
                  <a:pt x="10800" y="21433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78"/>
          <p:cNvSpPr/>
          <p:nvPr/>
        </p:nvSpPr>
        <p:spPr>
          <a:xfrm>
            <a:off x="27000" y="2108160"/>
            <a:ext cx="167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ФОРМИР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СОСТА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Скругленный прямоугольник 83"/>
          <p:cNvSpPr/>
          <p:nvPr/>
        </p:nvSpPr>
        <p:spPr>
          <a:xfrm>
            <a:off x="1920960" y="4923000"/>
            <a:ext cx="2557440" cy="85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рганизация обучения для членов молодежного правительства 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Скругленный прямоугольник 99"/>
          <p:cNvSpPr/>
          <p:nvPr/>
        </p:nvSpPr>
        <p:spPr>
          <a:xfrm>
            <a:off x="1933560" y="3618000"/>
            <a:ext cx="2590920" cy="85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рганизация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экспертно-аналитической деятельности членами молодежного правитель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Скругленный прямоугольник 100"/>
          <p:cNvSpPr/>
          <p:nvPr/>
        </p:nvSpPr>
        <p:spPr>
          <a:xfrm>
            <a:off x="6516720" y="3583080"/>
            <a:ext cx="2419200" cy="85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существление проектной деятельности членами молодежного правительства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Скругленный прямоугольник 101"/>
          <p:cNvSpPr/>
          <p:nvPr/>
        </p:nvSpPr>
        <p:spPr>
          <a:xfrm>
            <a:off x="6585120" y="4960800"/>
            <a:ext cx="2390760" cy="81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рганизация стажировок в составе проектных групп органов исполнительной власти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8" name="Прямая со стрелкой 107"/>
          <p:cNvCxnSpPr/>
          <p:nvPr/>
        </p:nvCxnSpPr>
        <p:spPr>
          <a:xfrm flipV="1">
            <a:off x="4478400" y="5303520"/>
            <a:ext cx="614880" cy="35784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19" name="Прямая со стрелкой 117"/>
          <p:cNvCxnSpPr/>
          <p:nvPr/>
        </p:nvCxnSpPr>
        <p:spPr>
          <a:xfrm flipH="1" flipV="1">
            <a:off x="5992200" y="5303520"/>
            <a:ext cx="592920" cy="39744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620" name="Левая фигурная скобка 122"/>
          <p:cNvSpPr/>
          <p:nvPr/>
        </p:nvSpPr>
        <p:spPr>
          <a:xfrm>
            <a:off x="1630440" y="3598920"/>
            <a:ext cx="216000" cy="217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178000"/>
              <a:gd name="textAreaBottom" fmla="*/ 2172600 h 217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"/>
                  <a:pt x="10800" y="178"/>
                </a:cubicBezTo>
                <a:lnTo>
                  <a:pt x="10800" y="10622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89"/>
                  <a:pt x="10800" y="10978"/>
                </a:cubicBezTo>
                <a:lnTo>
                  <a:pt x="10800" y="21422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123"/>
          <p:cNvSpPr/>
          <p:nvPr/>
        </p:nvSpPr>
        <p:spPr>
          <a:xfrm>
            <a:off x="33480" y="4437000"/>
            <a:ext cx="159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РГАНИЗАЦИЯ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Правая фигурная скобка 139"/>
          <p:cNvSpPr/>
          <p:nvPr/>
        </p:nvSpPr>
        <p:spPr>
          <a:xfrm rot="5400000">
            <a:off x="5276520" y="2350800"/>
            <a:ext cx="315720" cy="7034040"/>
          </a:xfrm>
          <a:custGeom>
            <a:avLst/>
            <a:gdLst>
              <a:gd name="textAreaLeft" fmla="*/ 0 w 315720"/>
              <a:gd name="textAreaRight" fmla="*/ 114120 w 315720"/>
              <a:gd name="textAreaTop" fmla="*/ 19080 h 7034040"/>
              <a:gd name="textAreaBottom" fmla="*/ 7014960 h 703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16200" y="10800"/>
                  <a:pt x="21600" y="10800"/>
                </a:cubicBezTo>
                <a:cubicBezTo>
                  <a:pt x="162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Скругленный прямоугольник 140"/>
          <p:cNvSpPr/>
          <p:nvPr/>
        </p:nvSpPr>
        <p:spPr>
          <a:xfrm>
            <a:off x="1846440" y="6016680"/>
            <a:ext cx="7089480" cy="663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4040" indent="-284040" algn="just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  <a:ea typeface="Arial Unicode MS"/>
              </a:rPr>
              <a:t>Разработан и апробирован механизм отбора, подготовки и сопровождения социально-активной молодежи  Белгородской области, обеспечивающей включение не менее 25 молодых людей региона в кадровый резер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 algn="just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Левая фигурная скобка 141"/>
          <p:cNvSpPr/>
          <p:nvPr/>
        </p:nvSpPr>
        <p:spPr>
          <a:xfrm>
            <a:off x="1596960" y="6016680"/>
            <a:ext cx="216000" cy="6634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663480"/>
              <a:gd name="textAreaBottom" fmla="*/ 658080 h 66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3"/>
                  <a:pt x="10800" y="586"/>
                </a:cubicBezTo>
                <a:lnTo>
                  <a:pt x="10800" y="10214"/>
                </a:lnTo>
                <a:cubicBezTo>
                  <a:pt x="10800" y="10507"/>
                  <a:pt x="5400" y="10800"/>
                  <a:pt x="0" y="10800"/>
                </a:cubicBezTo>
                <a:cubicBezTo>
                  <a:pt x="5400" y="10800"/>
                  <a:pt x="10800" y="11093"/>
                  <a:pt x="10800" y="11386"/>
                </a:cubicBezTo>
                <a:lnTo>
                  <a:pt x="10800" y="21014"/>
                </a:lnTo>
                <a:cubicBezTo>
                  <a:pt x="10800" y="213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142"/>
          <p:cNvSpPr/>
          <p:nvPr/>
        </p:nvSpPr>
        <p:spPr>
          <a:xfrm>
            <a:off x="274680" y="6145200"/>
            <a:ext cx="12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РЕЗУЛЬТА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6" name="Прямая со стрелкой 6"/>
          <p:cNvCxnSpPr/>
          <p:nvPr/>
        </p:nvCxnSpPr>
        <p:spPr>
          <a:xfrm flipH="1" flipV="1">
            <a:off x="4477680" y="3944160"/>
            <a:ext cx="525960" cy="276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27" name="Прямая со стрелкой 19"/>
          <p:cNvCxnSpPr/>
          <p:nvPr/>
        </p:nvCxnSpPr>
        <p:spPr>
          <a:xfrm flipV="1">
            <a:off x="5940000" y="3975840"/>
            <a:ext cx="577080" cy="2120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"/>
          <p:cNvSpPr/>
          <p:nvPr/>
        </p:nvSpPr>
        <p:spPr>
          <a:xfrm>
            <a:off x="304920" y="46368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2200"/>
            </a:b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304920" y="1197000"/>
            <a:ext cx="84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ОРГАНИЗАЦИОННАЯ СТРУКТУРА ДЕЯТЕЛЬНОСТ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МОЛОДЕЖНОГО ПРАВИТЕЛЬСТВА БЕЛГОРОДСКОЙ ОБЛАСТИ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Скругленный прямоугольник 1"/>
          <p:cNvSpPr/>
          <p:nvPr/>
        </p:nvSpPr>
        <p:spPr>
          <a:xfrm>
            <a:off x="4697280" y="1895400"/>
            <a:ext cx="3241800" cy="647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ЕДАТЕЛЬ МОЛОДЕЖНОГО ПРАВИТЕЛЬСТВА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Скругленный прямоугольник 5"/>
          <p:cNvSpPr/>
          <p:nvPr/>
        </p:nvSpPr>
        <p:spPr>
          <a:xfrm>
            <a:off x="3514680" y="2803680"/>
            <a:ext cx="1677960" cy="1395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ЗАМЕСТИТЕЛЬ ПРЕДСЕДАТЕЛЯ МОЛОДЕЖНОГО ПРАВИТЕЛЬСТВА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Скругленный прямоугольник 15"/>
          <p:cNvSpPr/>
          <p:nvPr/>
        </p:nvSpPr>
        <p:spPr>
          <a:xfrm>
            <a:off x="3514680" y="4508640"/>
            <a:ext cx="1852560" cy="144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МУНИЦИПАЛЬНЫХ ОБРАЗОВАНИ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Скругленный прямоугольник 16"/>
          <p:cNvSpPr/>
          <p:nvPr/>
        </p:nvSpPr>
        <p:spPr>
          <a:xfrm>
            <a:off x="5508720" y="4525920"/>
            <a:ext cx="1692360" cy="1440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ОБЩЕСТВЕННЫХ ОРГАНИЗАЦИ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Скругленный прямоугольник 17"/>
          <p:cNvSpPr/>
          <p:nvPr/>
        </p:nvSpPr>
        <p:spPr>
          <a:xfrm>
            <a:off x="7319880" y="4541760"/>
            <a:ext cx="1692360" cy="1440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ИНЫЕ ПРЕДСТАВИТЕЛИ МОЛОДЕЖИ, ПРОШЕДШИЕ КОНКУРСНЫЙ ОТБ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5" name="Прямая со стрелкой 23"/>
          <p:cNvCxnSpPr/>
          <p:nvPr/>
        </p:nvCxnSpPr>
        <p:spPr>
          <a:xfrm flipH="1">
            <a:off x="4284360" y="2542680"/>
            <a:ext cx="504000" cy="2595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36" name="Прямая со стрелкой 29"/>
          <p:cNvCxnSpPr/>
          <p:nvPr/>
        </p:nvCxnSpPr>
        <p:spPr>
          <a:xfrm>
            <a:off x="7885080" y="2543040"/>
            <a:ext cx="389520" cy="2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37" name="Прямая со стрелкой 41"/>
          <p:cNvCxnSpPr/>
          <p:nvPr/>
        </p:nvCxnSpPr>
        <p:spPr>
          <a:xfrm>
            <a:off x="4414320" y="4208400"/>
            <a:ext cx="1080" cy="2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38" name="Скругленный прямоугольник 45"/>
          <p:cNvSpPr/>
          <p:nvPr/>
        </p:nvSpPr>
        <p:spPr>
          <a:xfrm>
            <a:off x="5479920" y="2813040"/>
            <a:ext cx="1676520" cy="1395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ЗАМЕСТИТЕЛЬ ПРЕДСЕДАТЕЛЯ МОЛОДЕЖНОГО ПРАВИТЕЛЬСТВА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Скругленный прямоугольник 49"/>
          <p:cNvSpPr/>
          <p:nvPr/>
        </p:nvSpPr>
        <p:spPr>
          <a:xfrm>
            <a:off x="7304040" y="2813040"/>
            <a:ext cx="1677960" cy="1395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ЗАМЕСТИТЕЛЬ ПРЕДСЕДАТЕЛЯ МОЛОДЕЖНОГО ПРАВИТЕЛЬСТВА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0" name="Прямая со стрелкой 50"/>
          <p:cNvCxnSpPr/>
          <p:nvPr/>
        </p:nvCxnSpPr>
        <p:spPr>
          <a:xfrm>
            <a:off x="6318000" y="2543040"/>
            <a:ext cx="1080" cy="2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41" name="Прямая со стрелкой 51"/>
          <p:cNvCxnSpPr/>
          <p:nvPr/>
        </p:nvCxnSpPr>
        <p:spPr>
          <a:xfrm>
            <a:off x="6356160" y="4198680"/>
            <a:ext cx="1080" cy="270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42" name="Прямая со стрелкой 52"/>
          <p:cNvCxnSpPr/>
          <p:nvPr/>
        </p:nvCxnSpPr>
        <p:spPr>
          <a:xfrm>
            <a:off x="8187840" y="4221000"/>
            <a:ext cx="1080" cy="2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43" name="Левая фигурная скобка 53"/>
          <p:cNvSpPr/>
          <p:nvPr/>
        </p:nvSpPr>
        <p:spPr>
          <a:xfrm>
            <a:off x="3112920" y="1871640"/>
            <a:ext cx="398520" cy="4006800"/>
          </a:xfrm>
          <a:custGeom>
            <a:avLst/>
            <a:gdLst>
              <a:gd name="textAreaLeft" fmla="*/ 254520 w 398520"/>
              <a:gd name="textAreaRight" fmla="*/ 398880 w 398520"/>
              <a:gd name="textAreaTop" fmla="*/ 10080 h 4006800"/>
              <a:gd name="textAreaBottom" fmla="*/ 3996720 h 400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Овал 46"/>
          <p:cNvSpPr/>
          <p:nvPr/>
        </p:nvSpPr>
        <p:spPr>
          <a:xfrm>
            <a:off x="858960" y="3324240"/>
            <a:ext cx="2232000" cy="11016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МОЛОДЕЖНОЕ ПРАВИТЕЛЬСТВО БЕЛГОРОД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Скругленный прямоугольник 47"/>
          <p:cNvSpPr/>
          <p:nvPr/>
        </p:nvSpPr>
        <p:spPr>
          <a:xfrm>
            <a:off x="249120" y="1895400"/>
            <a:ext cx="2952720" cy="865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ОРГАНЫ ИСПОЛНИТЕЛЬНОЙ ВЛАСТИ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БЕЛГОРОД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Скругленный прямоугольник 59"/>
          <p:cNvSpPr/>
          <p:nvPr/>
        </p:nvSpPr>
        <p:spPr>
          <a:xfrm>
            <a:off x="304920" y="5022720"/>
            <a:ext cx="2896920" cy="86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УПРАВЛЕНИЕ МОЛОДЕЖНОЙ ПОЛИТИКИ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 БЕЛГОРОД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Двойная стрелка вверх/вниз 48"/>
          <p:cNvSpPr/>
          <p:nvPr/>
        </p:nvSpPr>
        <p:spPr>
          <a:xfrm>
            <a:off x="1900080" y="2760840"/>
            <a:ext cx="138240" cy="563400"/>
          </a:xfrm>
          <a:prstGeom prst="upDownArrow">
            <a:avLst>
              <a:gd name="adj1" fmla="val 50000"/>
              <a:gd name="adj2" fmla="val 50227"/>
            </a:avLst>
          </a:prstGeom>
          <a:solidFill>
            <a:srgbClr val="ffffff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Стрелка вверх 54"/>
          <p:cNvSpPr/>
          <p:nvPr/>
        </p:nvSpPr>
        <p:spPr>
          <a:xfrm>
            <a:off x="1900080" y="4425840"/>
            <a:ext cx="138240" cy="596880"/>
          </a:xfrm>
          <a:prstGeom prst="upArrow">
            <a:avLst>
              <a:gd name="adj1" fmla="val 50000"/>
              <a:gd name="adj2" fmla="val 50133"/>
            </a:avLst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Box 55"/>
          <p:cNvSpPr/>
          <p:nvPr/>
        </p:nvSpPr>
        <p:spPr>
          <a:xfrm>
            <a:off x="249120" y="4425840"/>
            <a:ext cx="153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Координация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60"/>
          <p:cNvSpPr/>
          <p:nvPr/>
        </p:nvSpPr>
        <p:spPr>
          <a:xfrm>
            <a:off x="249120" y="2813040"/>
            <a:ext cx="14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Прохождение стажировок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1"/>
          <p:cNvSpPr/>
          <p:nvPr/>
        </p:nvSpPr>
        <p:spPr>
          <a:xfrm>
            <a:off x="304920" y="46368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2200"/>
            </a:b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2"/>
          <p:cNvSpPr/>
          <p:nvPr/>
        </p:nvSpPr>
        <p:spPr>
          <a:xfrm>
            <a:off x="539640" y="119700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Franklin Gothic Medium"/>
              </a:rPr>
              <a:t>АЛГОРИТМ ОРГАНИЗАЦИИ ОБРАЗОВАТЕЛЬНОЙ ДЕЯТЕЛЬНОСТИ ДЛЯ </a:t>
            </a:r>
            <a:br>
              <a:rPr sz="1600"/>
            </a:br>
            <a:r>
              <a:rPr b="0" lang="ru-RU" sz="1600" spc="-1" strike="noStrike">
                <a:solidFill>
                  <a:srgbClr val="0d0d0d"/>
                </a:solidFill>
                <a:latin typeface="Franklin Gothic Medium"/>
              </a:rPr>
              <a:t>ЧЛЕНОВ МОЛОДЕЖНОГО ПРАВИТЕЛЬСТВА БЕЛГОРОДСКОЙ ОБЛА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Скругленный прямоугольник 3"/>
          <p:cNvSpPr/>
          <p:nvPr/>
        </p:nvSpPr>
        <p:spPr>
          <a:xfrm>
            <a:off x="1979640" y="1781280"/>
            <a:ext cx="5040360" cy="56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СОСТАВЛЕНИЕ КАРТ КОМПЕТЕНЦИЙ ДЛЯ КАЖДОГО ЧЛЕНА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МОЛОДЁЖНОГО ПРАВИТЕЛЬСТВА БЕЛГОРОДСКОЙ ОБЛАСТИ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Скругленный прямоугольник 26"/>
          <p:cNvSpPr/>
          <p:nvPr/>
        </p:nvSpPr>
        <p:spPr>
          <a:xfrm>
            <a:off x="1979640" y="2492280"/>
            <a:ext cx="5040360" cy="56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СОСТАВЛЕНИЕ ОБРАЗОВАТЕЛЬНЫХ ПРОГРАММ,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С УЧЕТОМ РАЗРАБОТАННЫХ КАРТ КОМПЕТЕН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кругленный прямоугольник 28"/>
          <p:cNvSpPr/>
          <p:nvPr/>
        </p:nvSpPr>
        <p:spPr>
          <a:xfrm>
            <a:off x="1008000" y="3235320"/>
            <a:ext cx="2376720" cy="55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ТЕОРЕТИЧЕСКИЙ БЛ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Скругленный прямоугольник 30"/>
          <p:cNvSpPr/>
          <p:nvPr/>
        </p:nvSpPr>
        <p:spPr>
          <a:xfrm>
            <a:off x="5435640" y="3218040"/>
            <a:ext cx="25210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АКТИЧЕСКИЙ БЛ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Скругленный прямоугольник 7"/>
          <p:cNvSpPr/>
          <p:nvPr/>
        </p:nvSpPr>
        <p:spPr>
          <a:xfrm>
            <a:off x="971640" y="3922560"/>
            <a:ext cx="2448000" cy="5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ВЕДЕНИЕ «ВХОДНОГО ТЕСТИРОВА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Скругленный прямоугольник 8"/>
          <p:cNvSpPr/>
          <p:nvPr/>
        </p:nvSpPr>
        <p:spPr>
          <a:xfrm>
            <a:off x="971640" y="4581360"/>
            <a:ext cx="2448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ВЕДЕНИЕ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ОБРАЗОВАТЕЛЬНОЙ ПРОГРАММ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Скругленный прямоугольник 10"/>
          <p:cNvSpPr/>
          <p:nvPr/>
        </p:nvSpPr>
        <p:spPr>
          <a:xfrm>
            <a:off x="4538520" y="3922560"/>
            <a:ext cx="1689120" cy="80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ЭКСПЕРТНО-АНАЛИТИЧЕСКАЯ ДЕЯТЕЛЬНОС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Скругленный прямоугольник 11"/>
          <p:cNvSpPr/>
          <p:nvPr/>
        </p:nvSpPr>
        <p:spPr>
          <a:xfrm>
            <a:off x="971640" y="5445000"/>
            <a:ext cx="2448000" cy="5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ВЕДЕНИЕ «ВЫХОДНОГО ТЕСТИРОВА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Скругленный прямоугольник 12"/>
          <p:cNvSpPr/>
          <p:nvPr/>
        </p:nvSpPr>
        <p:spPr>
          <a:xfrm>
            <a:off x="5148360" y="4879800"/>
            <a:ext cx="1547640" cy="82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ЕКТНАЯ ДЕЯТЕЛЬНОС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Скругленный прямоугольник 13"/>
          <p:cNvSpPr/>
          <p:nvPr/>
        </p:nvSpPr>
        <p:spPr>
          <a:xfrm>
            <a:off x="7596360" y="3922560"/>
            <a:ext cx="1368360" cy="80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СТАЖИРО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Скругленный прямоугольник 14"/>
          <p:cNvSpPr/>
          <p:nvPr/>
        </p:nvSpPr>
        <p:spPr>
          <a:xfrm>
            <a:off x="6912000" y="4869000"/>
            <a:ext cx="1476360" cy="83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РАБОТА С КЕЙС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4" name="Прямая со стрелкой 4"/>
          <p:cNvCxnSpPr>
            <a:stCxn id="653" idx="2"/>
            <a:endCxn id="654" idx="0"/>
          </p:cNvCxnSpPr>
          <p:nvPr/>
        </p:nvCxnSpPr>
        <p:spPr>
          <a:xfrm>
            <a:off x="4500360" y="2349000"/>
            <a:ext cx="1080" cy="1436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65" name="Прямая со стрелкой 17"/>
          <p:cNvCxnSpPr/>
          <p:nvPr/>
        </p:nvCxnSpPr>
        <p:spPr>
          <a:xfrm>
            <a:off x="2230200" y="3092040"/>
            <a:ext cx="1080" cy="1436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66" name="Прямая со стрелкой 18"/>
          <p:cNvCxnSpPr/>
          <p:nvPr/>
        </p:nvCxnSpPr>
        <p:spPr>
          <a:xfrm>
            <a:off x="6803640" y="3058920"/>
            <a:ext cx="1080" cy="14472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67" name="Прямая со стрелкой 19"/>
          <p:cNvCxnSpPr/>
          <p:nvPr/>
        </p:nvCxnSpPr>
        <p:spPr>
          <a:xfrm>
            <a:off x="2230200" y="3789000"/>
            <a:ext cx="1080" cy="1436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68" name="Прямая со стрелкой 20"/>
          <p:cNvCxnSpPr/>
          <p:nvPr/>
        </p:nvCxnSpPr>
        <p:spPr>
          <a:xfrm>
            <a:off x="2230200" y="4436640"/>
            <a:ext cx="1080" cy="1436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69" name="Прямая со стрелкой 21"/>
          <p:cNvCxnSpPr/>
          <p:nvPr/>
        </p:nvCxnSpPr>
        <p:spPr>
          <a:xfrm>
            <a:off x="2230200" y="5300280"/>
            <a:ext cx="1080" cy="1447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70" name="Прямая со стрелкой 22"/>
          <p:cNvCxnSpPr/>
          <p:nvPr/>
        </p:nvCxnSpPr>
        <p:spPr>
          <a:xfrm>
            <a:off x="5455800" y="3768480"/>
            <a:ext cx="1080" cy="144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71" name="Прямая со стрелкой 23"/>
          <p:cNvCxnSpPr/>
          <p:nvPr/>
        </p:nvCxnSpPr>
        <p:spPr>
          <a:xfrm>
            <a:off x="7957800" y="3754080"/>
            <a:ext cx="1080" cy="143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72" name="Прямая со стрелкой 24"/>
          <p:cNvCxnSpPr/>
          <p:nvPr/>
        </p:nvCxnSpPr>
        <p:spPr>
          <a:xfrm>
            <a:off x="6372000" y="3787920"/>
            <a:ext cx="1080" cy="1110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73" name="Прямая со стрелкой 27"/>
          <p:cNvCxnSpPr/>
          <p:nvPr/>
        </p:nvCxnSpPr>
        <p:spPr>
          <a:xfrm>
            <a:off x="7164000" y="3787920"/>
            <a:ext cx="1080" cy="1110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74" name="Скругленный прямоугольник 29"/>
          <p:cNvSpPr/>
          <p:nvPr/>
        </p:nvSpPr>
        <p:spPr>
          <a:xfrm>
            <a:off x="304920" y="6165720"/>
            <a:ext cx="154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УСПЕШ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Скругленный прямоугольник 31"/>
          <p:cNvSpPr/>
          <p:nvPr/>
        </p:nvSpPr>
        <p:spPr>
          <a:xfrm>
            <a:off x="2305080" y="6165720"/>
            <a:ext cx="154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НЕУДАЧН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6" name="Прямая со стрелкой 32"/>
          <p:cNvCxnSpPr/>
          <p:nvPr/>
        </p:nvCxnSpPr>
        <p:spPr>
          <a:xfrm>
            <a:off x="1077480" y="5959080"/>
            <a:ext cx="3960" cy="2070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77" name="Прямая со стрелкой 33"/>
          <p:cNvCxnSpPr/>
          <p:nvPr/>
        </p:nvCxnSpPr>
        <p:spPr>
          <a:xfrm>
            <a:off x="3276720" y="5959080"/>
            <a:ext cx="2160" cy="2070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78" name="Прямая соединительная линия 35"/>
          <p:cNvSpPr/>
          <p:nvPr/>
        </p:nvSpPr>
        <p:spPr>
          <a:xfrm>
            <a:off x="3852720" y="6399360"/>
            <a:ext cx="3797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9" name="Прямая со стрелкой 37"/>
          <p:cNvCxnSpPr>
            <a:endCxn id="663" idx="2"/>
          </p:cNvCxnSpPr>
          <p:nvPr/>
        </p:nvCxnSpPr>
        <p:spPr>
          <a:xfrm flipV="1">
            <a:off x="7649640" y="5702040"/>
            <a:ext cx="1080" cy="6976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80" name="TextBox 38"/>
          <p:cNvSpPr/>
          <p:nvPr/>
        </p:nvSpPr>
        <p:spPr>
          <a:xfrm>
            <a:off x="4167360" y="5877000"/>
            <a:ext cx="31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УВЕЛИЧЕНИЕ ОБЪЕМА ЗАДАНИЙ </a:t>
            </a:r>
            <a:br>
              <a:rPr sz="1200"/>
            </a:br>
            <a:r>
              <a:rPr b="0" lang="ru-RU" sz="12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О  ТЕМАТИКЕ ОБРАЗОВАТЕЛЬНОГО БЛО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Прямоугольник 2"/>
          <p:cNvSpPr/>
          <p:nvPr/>
        </p:nvSpPr>
        <p:spPr>
          <a:xfrm>
            <a:off x="611280" y="11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Прямоугольник 3"/>
          <p:cNvSpPr/>
          <p:nvPr/>
        </p:nvSpPr>
        <p:spPr>
          <a:xfrm>
            <a:off x="1187280" y="1125360"/>
            <a:ext cx="69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АЛГОРИТМ ОРГАНИЗАЦИИ СТАЖИРОВОК ДЛЯ </a:t>
            </a:r>
            <a:br>
              <a:rPr sz="1600"/>
            </a:br>
            <a:r>
              <a:rPr b="0" lang="ru-RU" sz="16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ЧЛЕНОВ МОЛОДЕЖНОГО ПРАВИТЕЛЬСТВА БЕЛГОРОДСКОЙ ОБЛА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Скругленный прямоугольник 4"/>
          <p:cNvSpPr/>
          <p:nvPr/>
        </p:nvSpPr>
        <p:spPr>
          <a:xfrm>
            <a:off x="5940360" y="5872320"/>
            <a:ext cx="2933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ОРГАНЫ ИСПОЛНИТЕЛЬНОЙ ВЛАСТИ РЕГИОНАЛЬНОГО УРОВН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Скругленный прямоугольник 5"/>
          <p:cNvSpPr/>
          <p:nvPr/>
        </p:nvSpPr>
        <p:spPr>
          <a:xfrm>
            <a:off x="426960" y="5872320"/>
            <a:ext cx="30974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ОРАНЫ ИСПОЛНИТЕЛЬНОЙ ВЛАСТИ МУНИЦИПАЛЬНОГО УРОВНЯ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Скругленный прямоугольник 8"/>
          <p:cNvSpPr/>
          <p:nvPr/>
        </p:nvSpPr>
        <p:spPr>
          <a:xfrm>
            <a:off x="5867280" y="1773360"/>
            <a:ext cx="3078360" cy="56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УПРАВЛЕНИЕ МОЛОДЕЖНОЙ ПОЛИТИКИ БЕЛГОРОДСКО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Скругленный прямоугольник 15"/>
          <p:cNvSpPr/>
          <p:nvPr/>
        </p:nvSpPr>
        <p:spPr>
          <a:xfrm>
            <a:off x="1835280" y="3019320"/>
            <a:ext cx="5160960" cy="1513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МОЛОДЕЖНОЕ ПРАВИТЕЛЬСТВО БЕЛГОРОДСКО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Скругленный прямоугольник 16"/>
          <p:cNvSpPr/>
          <p:nvPr/>
        </p:nvSpPr>
        <p:spPr>
          <a:xfrm>
            <a:off x="1841400" y="3581280"/>
            <a:ext cx="1683000" cy="936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МУНИЦИПАЛЬНЫХ ОБРАЗОВАНИ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Скругленный прямоугольник 18"/>
          <p:cNvSpPr/>
          <p:nvPr/>
        </p:nvSpPr>
        <p:spPr>
          <a:xfrm>
            <a:off x="3524400" y="3619440"/>
            <a:ext cx="1690560" cy="9129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ОБЩЕСТВЕННЫХ ОРГАНИЗАЦИ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Скругленный прямоугольник 19"/>
          <p:cNvSpPr/>
          <p:nvPr/>
        </p:nvSpPr>
        <p:spPr>
          <a:xfrm>
            <a:off x="5227560" y="3624120"/>
            <a:ext cx="1768680" cy="9036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ОБЩЕСТВЕННЫХ ОРГАНИЗАЦИ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0" name="Прямая со стрелкой 21"/>
          <p:cNvCxnSpPr>
            <a:stCxn id="687" idx="2"/>
          </p:cNvCxnSpPr>
          <p:nvPr/>
        </p:nvCxnSpPr>
        <p:spPr>
          <a:xfrm>
            <a:off x="2682360" y="4518000"/>
            <a:ext cx="1080" cy="13550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91" name="TextBox 24"/>
          <p:cNvSpPr/>
          <p:nvPr/>
        </p:nvSpPr>
        <p:spPr>
          <a:xfrm>
            <a:off x="2633760" y="4940280"/>
            <a:ext cx="175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ХОЖДЕНИЕ СТАЖИРОВК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2" name="Прямая со стрелкой 26"/>
          <p:cNvCxnSpPr/>
          <p:nvPr/>
        </p:nvCxnSpPr>
        <p:spPr>
          <a:xfrm flipV="1">
            <a:off x="2268000" y="4527000"/>
            <a:ext cx="1080" cy="135468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93" name="TextBox 28"/>
          <p:cNvSpPr/>
          <p:nvPr/>
        </p:nvSpPr>
        <p:spPr>
          <a:xfrm>
            <a:off x="258840" y="4581360"/>
            <a:ext cx="2009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ОСТАВЛЕНИЕ МЕСТ СТАЖИРОВКИ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НАЗНАЧЕНИЕ КУРАТОРА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ВКЛЮЧЕНИЕ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В КОМАНДУ ПРОЕКТА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Прямая со стрелкой 31"/>
          <p:cNvCxnSpPr/>
          <p:nvPr/>
        </p:nvCxnSpPr>
        <p:spPr>
          <a:xfrm>
            <a:off x="6352920" y="4527720"/>
            <a:ext cx="1080" cy="13737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95" name="TextBox 32"/>
          <p:cNvSpPr/>
          <p:nvPr/>
        </p:nvSpPr>
        <p:spPr>
          <a:xfrm>
            <a:off x="4695840" y="4867200"/>
            <a:ext cx="172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ХОЖДЕНИЕ СТАЖИРОВК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Прямая соединительная линия 34"/>
          <p:cNvSpPr/>
          <p:nvPr/>
        </p:nvSpPr>
        <p:spPr>
          <a:xfrm>
            <a:off x="4608360" y="4532400"/>
            <a:ext cx="0" cy="159552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7" name="Прямая со стрелкой 36"/>
          <p:cNvCxnSpPr>
            <a:endCxn id="683" idx="1"/>
          </p:cNvCxnSpPr>
          <p:nvPr/>
        </p:nvCxnSpPr>
        <p:spPr>
          <a:xfrm>
            <a:off x="4608360" y="6127560"/>
            <a:ext cx="13327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98" name="Прямая соединительная линия 40"/>
          <p:cNvSpPr/>
          <p:nvPr/>
        </p:nvSpPr>
        <p:spPr>
          <a:xfrm flipV="1">
            <a:off x="6996240" y="4797360"/>
            <a:ext cx="0" cy="107496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Прямая соединительная линия 43"/>
          <p:cNvSpPr/>
          <p:nvPr/>
        </p:nvSpPr>
        <p:spPr>
          <a:xfrm>
            <a:off x="4932360" y="4797360"/>
            <a:ext cx="206388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0" name="Прямая со стрелкой 45"/>
          <p:cNvCxnSpPr/>
          <p:nvPr/>
        </p:nvCxnSpPr>
        <p:spPr>
          <a:xfrm flipV="1">
            <a:off x="4932000" y="4532040"/>
            <a:ext cx="1080" cy="26568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701" name="Прямая соединительная линия 46"/>
          <p:cNvSpPr/>
          <p:nvPr/>
        </p:nvSpPr>
        <p:spPr>
          <a:xfrm flipV="1">
            <a:off x="7236000" y="4094280"/>
            <a:ext cx="0" cy="180648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Прямая со стрелкой 52"/>
          <p:cNvCxnSpPr/>
          <p:nvPr/>
        </p:nvCxnSpPr>
        <p:spPr>
          <a:xfrm flipH="1" flipV="1">
            <a:off x="6995880" y="4074480"/>
            <a:ext cx="240480" cy="198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703" name="Прямая соединительная линия 57"/>
          <p:cNvSpPr/>
          <p:nvPr/>
        </p:nvSpPr>
        <p:spPr>
          <a:xfrm flipH="1">
            <a:off x="2922480" y="2055960"/>
            <a:ext cx="294480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4" name="Прямая со стрелкой 59"/>
          <p:cNvCxnSpPr/>
          <p:nvPr/>
        </p:nvCxnSpPr>
        <p:spPr>
          <a:xfrm>
            <a:off x="2922120" y="2055960"/>
            <a:ext cx="1080" cy="96408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705" name="Прямая со стрелкой 62"/>
          <p:cNvCxnSpPr/>
          <p:nvPr/>
        </p:nvCxnSpPr>
        <p:spPr>
          <a:xfrm flipV="1">
            <a:off x="5940000" y="2339280"/>
            <a:ext cx="1080" cy="6800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06" name="TextBox 176127"/>
          <p:cNvSpPr/>
          <p:nvPr/>
        </p:nvSpPr>
        <p:spPr>
          <a:xfrm>
            <a:off x="5832360" y="2446200"/>
            <a:ext cx="225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ОСТАВЛЕНИЕ ОТЧЁТНОСТ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Box 176130"/>
          <p:cNvSpPr/>
          <p:nvPr/>
        </p:nvSpPr>
        <p:spPr>
          <a:xfrm>
            <a:off x="179280" y="1884240"/>
            <a:ext cx="288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РАЗРАБОТКА КРИТЕРИЕВ ЭФФЕКТИВНОСТИ ПРОХОЖДЕНИЯ СТАЖИРОВОК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КОНТРОЛЬ КАЧЕСТВА ПРОХОЖДЕНИЯ СТАЖИРОВОК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Box 29"/>
          <p:cNvSpPr/>
          <p:nvPr/>
        </p:nvSpPr>
        <p:spPr>
          <a:xfrm>
            <a:off x="7236000" y="4541760"/>
            <a:ext cx="2009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ОСТАВЛЕНИЕ МЕСТ СТАЖИРОВКИ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НАЗНАЧЕНИЕ КУРАТОРА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ВКЛЮЧЕНИЕ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В КОМАНДУ ПРОЕКТА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1"/>
          <p:cNvSpPr/>
          <p:nvPr/>
        </p:nvSpPr>
        <p:spPr>
          <a:xfrm>
            <a:off x="304920" y="189000"/>
            <a:ext cx="868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79200" y="692280"/>
          <a:ext cx="8912520" cy="5830920"/>
        </p:xfrm>
        <a:graphic>
          <a:graphicData uri="http://schemas.openxmlformats.org/drawingml/2006/table">
            <a:tbl>
              <a:tblPr/>
              <a:tblGrid>
                <a:gridCol w="382680"/>
                <a:gridCol w="1673280"/>
                <a:gridCol w="1321560"/>
                <a:gridCol w="954720"/>
                <a:gridCol w="945720"/>
                <a:gridCol w="226800"/>
                <a:gridCol w="227160"/>
                <a:gridCol w="226800"/>
                <a:gridCol w="225720"/>
                <a:gridCol w="226800"/>
                <a:gridCol w="227160"/>
                <a:gridCol w="226800"/>
                <a:gridCol w="227160"/>
                <a:gridCol w="227160"/>
                <a:gridCol w="226800"/>
                <a:gridCol w="228600"/>
                <a:gridCol w="216000"/>
                <a:gridCol w="244440"/>
                <a:gridCol w="226800"/>
                <a:gridCol w="227160"/>
                <a:gridCol w="223200"/>
              </a:tblGrid>
              <a:tr h="270720"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Длительность,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онча-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ка и утверждение НПА, регламентирующих создание и функционирование молодежного правительств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7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8.12.20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8.02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44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ие конкурса по формированию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VIII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става молодежного правительства Белгородской области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7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0.01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4.04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и проведение командобразующих мероприятий для членов молодежного правительств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85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5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9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стажировок для членов молодежного правительств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2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8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.01.20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cp:keywords/>
  <dc:language>en-US</dc:language>
  <cp:lastModifiedBy>Анна Немцева</cp:lastModifiedBy>
  <cp:lastPrinted>2017-01-15T15:34:20Z</cp:lastPrinted>
  <dcterms:modified xsi:type="dcterms:W3CDTF">2017-01-27T08:55:42Z</dcterms:modified>
  <cp:revision>912</cp:revision>
  <dc:subject/>
  <dc:title>Слайд 1</dc:title>
</cp:coreProperties>
</file>